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9C2B5-C539-4A7C-9E86-D05259DB4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FB69C-FB1B-4CB5-A6F0-2E8243B08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7CD52-7BD3-4E83-A573-5B4BCBF7C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82DA6-133E-43A3-8582-2A0227BA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7C0F9-A768-4B24-94D9-9453E6BA1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21D50-7016-4592-88DA-1CBED08E9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AA713-D5D8-4D11-8613-29F9B8CB7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54C35-8855-4301-879D-77C6EBC8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10F51-ECF6-4032-B0F6-10572ADA0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66B7A-3419-4C8F-949D-421408534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97975-55B5-4D26-A9A1-580B4E4C1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F3445-B65C-48F3-8DD0-98241BC59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EB5D3-1DFA-4C3C-A367-626C3867E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86C9A-C184-447A-80C9-BC0C9194A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8F54D-406D-43C2-A1FB-7A5F47E4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3A2C1-06EF-4F03-9392-B0F0CF16B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8E418-0504-4BCA-A6E9-3526B470E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9B205-10D1-4AF3-9C91-BEA5334AD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3F535-50C6-49E8-BACC-58B714FBC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3BFA2-88F8-49C2-B73D-8AC20E2EF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F0D5D-C6FD-45C1-B17D-17BFFB9F0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CC97F-6EA8-4811-ADA0-EB0906BC1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6B85A-4E62-43B4-8C3B-5828F2246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3D5DE-AE85-4512-B313-2E3F55B70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62B6A-7AC9-4125-860B-323882339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54648-596B-4D9E-8CEE-2759E0ADF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7A8D2-0245-48FF-958D-8BB7EFADD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E5CA5-903B-4A7C-B08C-B15C3A757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9236-4549-4C56-A3D5-58D50F52D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2374-DFFB-4D46-BC1D-FC01692F1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3A3B-470B-4AFD-B90A-3F541EB0D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49A9-D338-4EF8-872A-16BFACBA4D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7C48-B8FE-4643-B4A2-7BC3B2958B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7C94-D96A-4FCA-ABE4-90BEDBC16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7BC2-FBB2-475B-B15E-6D55521B2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ED02-E608-4801-A5BF-1120D1BC2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56F2-A2AE-4850-A776-881F1B47B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A53B-B5BF-4CC4-A05F-B40C9D2E2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E3A0-F68B-42C1-8B80-48A04D598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4EB6-0D16-469D-80BF-751F23423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15D49-0F54-40DA-9F99-26AD7085C0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60280"/>
            <a:ext cx="68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obaric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195640" y="213372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cus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s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UAL THERAPEUTIC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85800" y="1905120"/>
            <a:ext cx="43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i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46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tension procedures– t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69720" y="1844640"/>
            <a:ext cx="5715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 is a passive kinesitherapeutic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can increase intervertebral space fo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1,5–2,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den the intervertebral foramin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amina intervertebrali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block the posterior intervertebr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ophyseal) joints which are anatomically closely connected with the spinal root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 the ligamentous appa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6516720" y="0"/>
            <a:ext cx="262728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rcRect l="0" t="0" r="7143" b="0"/>
          <a:stretch/>
        </p:blipFill>
        <p:spPr>
          <a:xfrm>
            <a:off x="6443640" y="3284640"/>
            <a:ext cx="27003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 can be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a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mittent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– 60 sec,  30–60 se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ccessive–progress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enerative changes of the spin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a phase of functional blockade of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gr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fasse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yndrom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drom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liolumb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for surgical treat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berculous spondyl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mor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ctur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e osteoporos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euerman’s disease, inguinal and scrotal hernia, severe cardiac and pulmonary diseases,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0" y="228600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 involves the use of sound for therapeutic purpos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oustic energy implies a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ve mo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presented by longitudinal mechanic vibration of the material particl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which in the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mpres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refa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reads through the gaseous, liquid and solid medi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propagation speed depends on the frequency and wavelengt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4"/>
          <p:cNvGrpSpPr/>
          <p:nvPr/>
        </p:nvGrpSpPr>
        <p:grpSpPr>
          <a:xfrm>
            <a:off x="990720" y="4724280"/>
            <a:ext cx="7083360" cy="1521000"/>
            <a:chOff x="990720" y="4724280"/>
            <a:chExt cx="7083360" cy="1521000"/>
          </a:xfrm>
        </p:grpSpPr>
        <p:sp>
          <p:nvSpPr>
            <p:cNvPr id="130" name="Text Box 5"/>
            <p:cNvSpPr/>
            <p:nvPr/>
          </p:nvSpPr>
          <p:spPr>
            <a:xfrm>
              <a:off x="2328840" y="5929200"/>
              <a:ext cx="46926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090880" y="4724280"/>
              <a:ext cx="51912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2422440" y="5219640"/>
              <a:ext cx="0" cy="5288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990720" y="4965840"/>
              <a:ext cx="14284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oscillation of wave partic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V="1">
              <a:off x="1949400" y="4826160"/>
              <a:ext cx="376200" cy="180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1901880" y="5327640"/>
              <a:ext cx="376200" cy="209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6881760" y="4900680"/>
              <a:ext cx="11923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wave propa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 Box 12"/>
          <p:cNvSpPr/>
          <p:nvPr/>
        </p:nvSpPr>
        <p:spPr>
          <a:xfrm>
            <a:off x="76320" y="39304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ND IS A MECHANICAL LONGITUDINAL WAVE WITH A RANGE OF FREQUENCY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20 – 20.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2590920" y="1981080"/>
            <a:ext cx="3882960" cy="2206800"/>
            <a:chOff x="2590920" y="1981080"/>
            <a:chExt cx="3882960" cy="2206800"/>
          </a:xfrm>
        </p:grpSpPr>
        <p:grpSp>
          <p:nvGrpSpPr>
            <p:cNvPr id="139" name="Group 14"/>
            <p:cNvGrpSpPr/>
            <p:nvPr/>
          </p:nvGrpSpPr>
          <p:grpSpPr>
            <a:xfrm>
              <a:off x="3313080" y="2075040"/>
              <a:ext cx="2452680" cy="326880"/>
              <a:chOff x="3313080" y="2075040"/>
              <a:chExt cx="2452680" cy="326880"/>
            </a:xfrm>
          </p:grpSpPr>
          <p:grpSp>
            <p:nvGrpSpPr>
              <p:cNvPr id="140" name="Group 15"/>
              <p:cNvGrpSpPr/>
              <p:nvPr/>
            </p:nvGrpSpPr>
            <p:grpSpPr>
              <a:xfrm>
                <a:off x="4195440" y="2075040"/>
                <a:ext cx="733680" cy="321480"/>
                <a:chOff x="4195440" y="2075040"/>
                <a:chExt cx="733680" cy="321480"/>
              </a:xfrm>
            </p:grpSpPr>
            <p:grpSp>
              <p:nvGrpSpPr>
                <p:cNvPr id="141" name="Group 16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2" name="Freeform 17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8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Freeform 19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5" name="Group 20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6" name="Freeform 21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22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" name="Freeform 23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4"/>
                <p:cNvSpPr/>
                <p:nvPr/>
              </p:nvSpPr>
              <p:spPr>
                <a:xfrm flipH="1" flipV="1">
                  <a:off x="4195080" y="2236680"/>
                  <a:ext cx="181080" cy="159480"/>
                </a:xfrm>
                <a:custGeom>
                  <a:avLst/>
                  <a:gdLst>
                    <a:gd name="textAreaLeft" fmla="*/ -360 w 181080"/>
                    <a:gd name="textAreaRight" fmla="*/ 18108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5"/>
              <p:cNvSpPr/>
              <p:nvPr/>
            </p:nvSpPr>
            <p:spPr>
              <a:xfrm>
                <a:off x="3313080" y="2401920"/>
                <a:ext cx="88092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26"/>
              <p:cNvSpPr/>
              <p:nvPr/>
            </p:nvSpPr>
            <p:spPr>
              <a:xfrm>
                <a:off x="4933800" y="2401920"/>
                <a:ext cx="83196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Text Box 27"/>
            <p:cNvSpPr/>
            <p:nvPr/>
          </p:nvSpPr>
          <p:spPr>
            <a:xfrm>
              <a:off x="2820960" y="212256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28"/>
            <p:cNvSpPr/>
            <p:nvPr/>
          </p:nvSpPr>
          <p:spPr>
            <a:xfrm>
              <a:off x="2820960" y="283068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3490920" y="2971800"/>
              <a:ext cx="689040" cy="561960"/>
              <a:chOff x="3490920" y="2971800"/>
              <a:chExt cx="689040" cy="561960"/>
            </a:xfrm>
          </p:grpSpPr>
          <p:grpSp>
            <p:nvGrpSpPr>
              <p:cNvPr id="155" name="Group 30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56" name="Freeform 31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2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33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59" name="Freeform 34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35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36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62" name="Freeform 37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38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39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65" name="Freeform 40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1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42"/>
            <p:cNvGrpSpPr/>
            <p:nvPr/>
          </p:nvGrpSpPr>
          <p:grpSpPr>
            <a:xfrm>
              <a:off x="4184640" y="2971800"/>
              <a:ext cx="686880" cy="561960"/>
              <a:chOff x="4184640" y="2971800"/>
              <a:chExt cx="686880" cy="561960"/>
            </a:xfrm>
          </p:grpSpPr>
          <p:grpSp>
            <p:nvGrpSpPr>
              <p:cNvPr id="168" name="Group 43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69" name="Freeform 44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5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6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2" name="Freeform 47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8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9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75" name="Freeform 50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51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52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8" name="Freeform 53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4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" name="Group 55"/>
            <p:cNvGrpSpPr/>
            <p:nvPr/>
          </p:nvGrpSpPr>
          <p:grpSpPr>
            <a:xfrm>
              <a:off x="4875120" y="2971800"/>
              <a:ext cx="687600" cy="561960"/>
              <a:chOff x="4875120" y="2971800"/>
              <a:chExt cx="687600" cy="561960"/>
            </a:xfrm>
          </p:grpSpPr>
          <p:grpSp>
            <p:nvGrpSpPr>
              <p:cNvPr id="181" name="Group 56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2" name="Freeform 57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58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59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85" name="Freeform 60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61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62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8" name="Freeform 63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64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65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91" name="Freeform 66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67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Text Box 68"/>
            <p:cNvSpPr/>
            <p:nvPr/>
          </p:nvSpPr>
          <p:spPr>
            <a:xfrm>
              <a:off x="4027320" y="3349800"/>
              <a:ext cx="578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69"/>
            <p:cNvSpPr/>
            <p:nvPr/>
          </p:nvSpPr>
          <p:spPr>
            <a:xfrm>
              <a:off x="3313080" y="3255840"/>
              <a:ext cx="2452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70"/>
            <p:cNvSpPr/>
            <p:nvPr/>
          </p:nvSpPr>
          <p:spPr>
            <a:xfrm>
              <a:off x="3490920" y="2782800"/>
              <a:ext cx="0" cy="989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1"/>
            <p:cNvSpPr/>
            <p:nvPr/>
          </p:nvSpPr>
          <p:spPr>
            <a:xfrm>
              <a:off x="3044880" y="3303720"/>
              <a:ext cx="577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72"/>
            <p:cNvSpPr/>
            <p:nvPr/>
          </p:nvSpPr>
          <p:spPr>
            <a:xfrm flipV="1">
              <a:off x="3313080" y="3252600"/>
              <a:ext cx="17460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73"/>
            <p:cNvSpPr/>
            <p:nvPr/>
          </p:nvSpPr>
          <p:spPr>
            <a:xfrm flipH="1" flipV="1">
              <a:off x="4202280" y="3252600"/>
              <a:ext cx="47520" cy="1918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74"/>
            <p:cNvSpPr/>
            <p:nvPr/>
          </p:nvSpPr>
          <p:spPr>
            <a:xfrm>
              <a:off x="367020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>
              <a:off x="434016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76"/>
            <p:cNvSpPr/>
            <p:nvPr/>
          </p:nvSpPr>
          <p:spPr>
            <a:xfrm>
              <a:off x="367020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77"/>
            <p:cNvSpPr/>
            <p:nvPr/>
          </p:nvSpPr>
          <p:spPr>
            <a:xfrm>
              <a:off x="411624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78"/>
            <p:cNvSpPr/>
            <p:nvPr/>
          </p:nvSpPr>
          <p:spPr>
            <a:xfrm>
              <a:off x="3848040" y="268920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79"/>
            <p:cNvSpPr/>
            <p:nvPr/>
          </p:nvSpPr>
          <p:spPr>
            <a:xfrm>
              <a:off x="5099040" y="2641680"/>
              <a:ext cx="846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=</a:t>
              </a: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80"/>
            <p:cNvSpPr/>
            <p:nvPr/>
          </p:nvSpPr>
          <p:spPr>
            <a:xfrm>
              <a:off x="4741920" y="28306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81"/>
            <p:cNvSpPr/>
            <p:nvPr/>
          </p:nvSpPr>
          <p:spPr>
            <a:xfrm>
              <a:off x="5724360" y="30672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x, 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82"/>
            <p:cNvSpPr/>
            <p:nvPr/>
          </p:nvSpPr>
          <p:spPr>
            <a:xfrm>
              <a:off x="3222720" y="25956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83"/>
            <p:cNvSpPr/>
            <p:nvPr/>
          </p:nvSpPr>
          <p:spPr>
            <a:xfrm>
              <a:off x="2590920" y="3765600"/>
              <a:ext cx="38829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84"/>
            <p:cNvSpPr/>
            <p:nvPr/>
          </p:nvSpPr>
          <p:spPr>
            <a:xfrm>
              <a:off x="4921200" y="21700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85"/>
            <p:cNvSpPr/>
            <p:nvPr/>
          </p:nvSpPr>
          <p:spPr>
            <a:xfrm>
              <a:off x="5322960" y="198108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MECHANICAL WAVES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BASIC CHARACTERIS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OUND AND ULTRA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9080" y="1771560"/>
            <a:ext cx="236232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247840" y="1447920"/>
            <a:ext cx="2971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-20.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876920" y="1447920"/>
            <a:ext cx="42670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tic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- 40 W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apeu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effect of ultrasound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438280" y="1752480"/>
            <a:ext cx="5943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han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-chem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reflexiv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85800" y="3808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ary effects of ultras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066680" y="2286000"/>
            <a:ext cx="7315200" cy="426708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ge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sm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i-inflamm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atic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rovement of microcirculation, muscle mass and tissue 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ybrinoly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914400" y="19051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forms of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aratu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baric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therapeutic technique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 procedure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otherap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 and ultrasou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-effects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556000" y="2349360"/>
            <a:ext cx="48765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vitation phenomen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 dose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trasound de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2627280" y="1600200"/>
            <a:ext cx="4033800" cy="452592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of acqui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ostri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mech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ics of the ultrasound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193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65300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aq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onophores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28600" y="18288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opical drug is usually in a form of ointment or cream and most often the following drugs are used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omucasae, hylase, hidrocortison, antirheumatic ointments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ment is performed using a labile method, and a medical cream or ointment s used as a contact med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ount of the received dose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Intensity(W/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urface on which it is applied (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Duration of application (m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Number of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loids and sc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upuytre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tra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ros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RA, Mb Bechter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dovagin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PAHS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pycondyl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a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traumatic conditions and their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ur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ccigodi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one crushing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Mb Meniere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pophyseal surgerie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685800" y="3808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Contraindications for son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525600" y="1844640"/>
            <a:ext cx="8229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t is not used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 the area of the head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along the hairlin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medulae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spinalis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avid uterus and in children’s ag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owth zones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Presence of metal in the field </a:t>
            </a: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s not a contra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403280" y="1557360"/>
            <a:ext cx="7067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eeding and bleeding tend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teopo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infectious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onchi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i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ensation of vital organs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MANUAL MASSAG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205740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apeutic mass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rt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gienic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877000" y="2919240"/>
            <a:ext cx="1581120" cy="18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ques of classic manual mass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22096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LEU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RI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POTMENT or PERC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ffects of various forms of massage according to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457200" y="1600200"/>
            <a:ext cx="8226360" cy="4989600"/>
            <a:chOff x="457200" y="1600200"/>
            <a:chExt cx="8226360" cy="4989600"/>
          </a:xfrm>
        </p:grpSpPr>
        <p:sp>
          <p:nvSpPr>
            <p:cNvPr id="63" name="Rectangle 3"/>
            <p:cNvSpPr/>
            <p:nvPr/>
          </p:nvSpPr>
          <p:spPr>
            <a:xfrm>
              <a:off x="457200" y="1600200"/>
              <a:ext cx="190116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4"/>
            <p:cNvSpPr/>
            <p:nvPr/>
          </p:nvSpPr>
          <p:spPr>
            <a:xfrm>
              <a:off x="2361600" y="160020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age strok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3813840" y="160020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ssues that are affe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5712120" y="160020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lu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57200" y="2404800"/>
              <a:ext cx="1901160" cy="15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da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2361600" y="2404800"/>
              <a:ext cx="14490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leu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3813840" y="2404800"/>
              <a:ext cx="189612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вршина кож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712120" y="2404800"/>
              <a:ext cx="29678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 the nerve ending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2361600" y="30441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erficial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3813840" y="30441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in and subcutaneous tiss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5712120" y="30441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involved by these lay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457200" y="3956760"/>
              <a:ext cx="1901160" cy="26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2361600" y="395676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ep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3813840" y="395676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layers of the 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7"/>
            <p:cNvSpPr/>
            <p:nvPr/>
          </p:nvSpPr>
          <p:spPr>
            <a:xfrm>
              <a:off x="5712120" y="395676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within th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2361600" y="47613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tris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9"/>
            <p:cNvSpPr/>
            <p:nvPr/>
          </p:nvSpPr>
          <p:spPr>
            <a:xfrm>
              <a:off x="3813840" y="47613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20"/>
            <p:cNvSpPr/>
            <p:nvPr/>
          </p:nvSpPr>
          <p:spPr>
            <a:xfrm>
              <a:off x="5712120" y="47613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ong influence on musc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2361600" y="567540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o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3813840" y="567540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3"/>
            <p:cNvSpPr/>
            <p:nvPr/>
          </p:nvSpPr>
          <p:spPr>
            <a:xfrm>
              <a:off x="5712120" y="567540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es muscles which react with mild contrac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24"/>
            <p:cNvSpPr/>
            <p:nvPr/>
          </p:nvSpPr>
          <p:spPr>
            <a:xfrm>
              <a:off x="23616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5"/>
            <p:cNvSpPr/>
            <p:nvPr/>
          </p:nvSpPr>
          <p:spPr>
            <a:xfrm>
              <a:off x="381384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71212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7"/>
            <p:cNvSpPr/>
            <p:nvPr/>
          </p:nvSpPr>
          <p:spPr>
            <a:xfrm>
              <a:off x="457200" y="2404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8"/>
            <p:cNvSpPr/>
            <p:nvPr/>
          </p:nvSpPr>
          <p:spPr>
            <a:xfrm>
              <a:off x="2361600" y="30441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9"/>
            <p:cNvSpPr/>
            <p:nvPr/>
          </p:nvSpPr>
          <p:spPr>
            <a:xfrm>
              <a:off x="457200" y="395676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30"/>
            <p:cNvSpPr/>
            <p:nvPr/>
          </p:nvSpPr>
          <p:spPr>
            <a:xfrm>
              <a:off x="2361600" y="47613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31"/>
            <p:cNvSpPr/>
            <p:nvPr/>
          </p:nvSpPr>
          <p:spPr>
            <a:xfrm>
              <a:off x="2361600" y="567540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>
              <a:off x="4572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868356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457200" y="16002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35"/>
            <p:cNvSpPr/>
            <p:nvPr/>
          </p:nvSpPr>
          <p:spPr>
            <a:xfrm>
              <a:off x="457200" y="6589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d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gener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convalesc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eurocirculatory dysto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loc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osttraumatic conditi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heumatic diseas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ocal swelling and ede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and lumbar syndrom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laccid and spastic paresis and paralysi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troduction to kinesithera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aindications for a 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cute infective disea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ute inflammatory proces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pecially purul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eeding, bleeding tendenc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ymphanigitis, thrombophlebitis, severe aneurysmal dilation of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linant tum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kin dise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phrolythiasis, choleolythia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PPARATUS MASSAGE</a:t>
            </a:r>
            <a:br>
              <a:rPr sz="26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pparatus- VIBRATION MASSAGE APPARATU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4208" t="3473" r="6312" b="44173"/>
          <a:stretch/>
        </p:blipFill>
        <p:spPr>
          <a:xfrm>
            <a:off x="457200" y="1371600"/>
            <a:ext cx="3817800" cy="3809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rcRect l="0" t="59975" r="6179" b="0"/>
          <a:stretch/>
        </p:blipFill>
        <p:spPr>
          <a:xfrm>
            <a:off x="4343400" y="1371600"/>
            <a:ext cx="3673440" cy="3841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228600" y="5181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of a pain threshold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nalgesic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ctive hyperem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of cellular metabolism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the toxic degradable products of a pathological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2408400"/>
            <a:ext cx="4800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cotish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rcot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arl wellness batht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water m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rpool b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962520" y="2130480"/>
          <a:ext cx="469728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0480"/>
                    <a:ext cx="469728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ada Miklja</cp:lastModifiedBy>
  <dcterms:modified xsi:type="dcterms:W3CDTF">2023-09-26T08:05:36Z</dcterms:modified>
  <cp:revision>78</cp:revision>
  <dc:subject/>
  <dc:title>MEHANOTERAPIJA</dc:title>
</cp:coreProperties>
</file>